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B95-0E70-4B20-BA61-786BFF11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osaic from: http://www.mosaicartsource.com/mosaicart/mosaic_art_gallery/sonia_king_mosa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al Mosai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hr.nlm.nih.gov/handbook/illustrations/mosaic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ancerous cells from: http://www.sciencedirect.com/science/article/pii/S15356108110043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148-0288-452B-BCD4-6F117910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815-0B7A-4452-BDAC-83FD569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483-0326-47B5-9410-A2F9B281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AE6-714B-4951-B612-0F8D3B35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F3C-6735-48CF-877B-9013CA6A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75B-C038-43FD-8807-74896B6F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171-E09B-498C-A2C0-561EAE7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83F-87CE-4F92-B3D3-CEEA6FC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2BD-67A4-4DA6-A747-8D860E3D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04C-F571-4415-9686-200A687D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DFA-DECB-4153-82D3-DF3FD3C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DAF-18BD-4152-8FE2-6D857663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5B1C-0CC2-4881-87FD-2A239F891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Mosaicism Linked to Aging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4040" y="609480"/>
            <a:ext cx="749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2:19:28Z</dcterms:created>
  <dc:creator>rubina khan</dc:creator>
  <dc:description/>
  <dc:language>en-US</dc:language>
  <cp:lastModifiedBy>rubina khan</cp:lastModifiedBy>
  <dcterms:modified xsi:type="dcterms:W3CDTF">2012-05-15T02:46:49Z</dcterms:modified>
  <cp:revision>2</cp:revision>
  <dc:subject/>
  <dc:title>Genetic Mosaicism Linked to Aging and Cancer</dc:title>
</cp:coreProperties>
</file>